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08A-4E6D-4A6F-9616-F0AA56F3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487-5100-41E5-9E27-7B0701F5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DCF-6302-4DC4-92CB-DC309336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1A3-3DB1-4ECD-86C1-8C3285DA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35F0-3859-4F78-8E56-CAC85282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764C-8DD9-4210-8A7B-42C73282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D393-E31D-40D5-9C49-231ED8F5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C909-9DAF-4826-97E6-449744C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AC73-2B26-47C3-BB82-6D9CD37D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6A91-4BC8-4BA6-A1DA-CDFC586D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5CF1-AE90-4CB6-BB92-09CA3CE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CBC-6D16-45E6-BDD0-CC6085DD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5DA7-0E1A-4399-B65D-FE7CD850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36F-4166-46C7-9D60-129388D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794D-2E45-4112-835D-9917A336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21A2-74FF-4EE7-A818-DAE78E86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302F-E3F4-4A0C-A053-6C5B4E06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351-5D98-4871-BB52-1D2E2342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E3B-29D6-4053-A6A7-7F3CF68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A45-FD11-4593-A641-DB6934A5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894-1D42-425C-8A9F-6E43CC4C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159-73CE-4F6D-B553-689BD8B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F58-33B2-4689-BD33-D8BE901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46F-0A48-480E-963E-5155F4A3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0D46-7151-4348-BE25-E494C784F8D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28C9-AD30-4909-B752-8EE1308614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B6A5-F612-49E4-9B44-7323A7DBAFF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67E6-C4DD-4908-9E4B-B5423E11B6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EB2-BE9E-4493-B3A1-9EC1255B6043}" type="datetime"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Learning About Letters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2520" y="2895480"/>
            <a:ext cx="72392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hicka, Chicka, Boom, Boom”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 Unicode MS"/>
              </a:rPr>
              <a:t>Mm, Rr, Ss, Bb, Tt, Aa</a:t>
            </a:r>
            <a:endParaRPr b="0" lang="en-US" sz="45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indergarten  2005-06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nitedstreaming Video Clip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Rr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Rhinocero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Rr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Rhino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1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Ramona the Rattlesnake!”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828800" y="57913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Rr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981080" y="4419720"/>
            <a:ext cx="44960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. Find Rr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2. See how to write Rr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3. Read words that begin with Rr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Rr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5760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Ss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Ss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Seal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8229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Ss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Swan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Solomon the Seal!”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82840" y="274176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90720" y="1603440"/>
            <a:ext cx="8153280" cy="5254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905120" y="56386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Ss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8153280" cy="5248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2057400" y="4114800"/>
            <a:ext cx="472428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nd Ss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e how to write Ss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ead words that begin with Ss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5840" y="5331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Chicka-Chicka Boom Boom!”</a:t>
            </a:r>
            <a:endParaRPr b="0" lang="en-US" sz="48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549440"/>
            <a:ext cx="8153280" cy="5308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143000" y="5943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he screen to play the video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1840" y="3805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S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809880" y="27432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Bb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Bb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Bison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1542960"/>
            <a:ext cx="81532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Bb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Bear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I’m a Big Brown Bear!”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81080" y="6019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Bb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886200" y="35053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52480" y="4495680"/>
            <a:ext cx="464832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. Find Bb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2. See how to write Bb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3. Read words that begin with Bb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B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514600" y="609588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86000" y="616428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he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733920" y="29718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Tt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Tt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Turtle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81532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7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Tt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Tamarin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657600" y="31240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Mm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Teddy the Tiger!”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092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580120" y="586728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Tt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2514600" y="4325760"/>
            <a:ext cx="47242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. Find Tt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2. See how to write T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3. Read words that begin with T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Tt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2590920" y="61722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he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114800" y="30481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Aa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Aa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Ant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8229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Aa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Ape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Alligator Annie!”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90720" y="1549440"/>
            <a:ext cx="8153280" cy="5308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2504160" y="571500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9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Aa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0925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2057400" y="464832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nd Aa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e how to write Aa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ead words that begin with Aa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5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01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Short “a” Rhyming Words!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2057400" y="5867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Pat Had a Very Fat Cat!”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981080" y="57913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7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 Unicode MS"/>
              </a:rPr>
              <a:t>Mm </a:t>
            </a:r>
            <a:r>
              <a:rPr b="1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1" lang="en-US" sz="6000" spc="-1" strike="noStrike">
                <a:solidFill>
                  <a:srgbClr val="0066ff"/>
                </a:solidFill>
                <a:latin typeface="Arial Unicode MS"/>
              </a:rPr>
              <a:t> Meerkat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541520"/>
            <a:ext cx="8229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Credits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nimal Alphabet. Discovery Channel School. 0. unitedstreaming. 27 August 2005 &lt;http://www.unitedstreaming.com/&gt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nimal ABC's. Rainbow Educational Media. 1988. unitedstreaming. 27 August 2005 &lt;http://www.unitedstreaming.com/&gt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Phonics in Context: ABC Animals. United Learning. 1997. unitedstreaming. 27 August 2005 &lt;http://www.unitedstreaming.com/&gt;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ll About Our ABCs. United Learning. 2005. unitedstreaming. 27 August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Phonics in Context: The Long and Short Vowels. United Learning. 1997. unitedstreaming. 29 August 2005 &lt;http://www.unitedstreaming.com/&gt;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Credits Continued …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295280" y="1828800"/>
            <a:ext cx="762012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tory of Read-Alee-Deed-Alee, The: The Hot Dot. Slim Goodbody. 1994. unitedstreaming. 29 August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tory of Read-Alee-Deed-Alee, The: More at the Core. Slim Goodbody. 1994. unitedstreaming. 4 September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tory of Read-Alee-Deed-Alee, The: The Cold Gold. Slim Goodbody. 1994. unitedstreaming. 4 September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tory of Read-Alee-Deed-Alee, The: Valentine: Be Mine. Slim Goodbody. 1994. unitedstreaming. 4 September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United Learning. "Stories About Vowels: Ann's Wonderful Sail (Short A and Long A).“  unitedstreaming. http://www.unitedstreaming.com/ 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Mm is for Musk Oxen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558800"/>
            <a:ext cx="82296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I’m a Merry, </a:t>
            </a:r>
            <a:br>
              <a:rPr sz="5400"/>
            </a:b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Merry  Monkey!”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905120" y="58672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Mm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2879640"/>
          <a:ext cx="357984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879640"/>
                    <a:ext cx="35798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4"/>
          <p:cNvSpPr/>
          <p:nvPr/>
        </p:nvSpPr>
        <p:spPr>
          <a:xfrm>
            <a:off x="3352680" y="2819520"/>
            <a:ext cx="381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1565280"/>
            <a:ext cx="8153280" cy="529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057400" y="3886200"/>
            <a:ext cx="487692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nd Mm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e how to write Mm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ead words that begin with Mm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Mm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886200" y="3124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Rr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23:58:52Z</dcterms:created>
  <dc:creator>Sally Walter</dc:creator>
  <dc:description/>
  <dc:language>en-US</dc:language>
  <cp:lastModifiedBy>Help Desk</cp:lastModifiedBy>
  <dcterms:modified xsi:type="dcterms:W3CDTF">2010-08-15T03:54:14Z</dcterms:modified>
  <cp:revision>28</cp:revision>
  <dc:subject/>
  <dc:title>Learning About Letters</dc:title>
</cp:coreProperties>
</file>